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B5F9F03-2954-48A7-B1C9-C077079A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5825-B399-4AB4-B2CB-7504D9D236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4F7-F9C7-41F1-9B13-5CBD3D3C56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BBE-F445-4348-AA8A-2259A26CA3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6640-0254-4623-A710-F28A106C27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FAD3-F41E-4A97-B6FB-159AA746AA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C0D0-C68F-4031-8386-72EFE83AD31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D35-0BB8-46DA-8365-182E5766E8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ED9-DF2F-47F9-9B65-FB39D351E8B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659B-7778-4C59-A5CE-B1F1CAF073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A33F-F080-40BB-AFB4-FE310694A11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A664-AA67-452D-BF75-6D52E5A9EDC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8578-5FBA-4217-B030-04FFF2072B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F159-D8F3-487F-B95D-21C4F4BB59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4596-98D6-4464-988C-DC8F14E0009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2CE1-2378-4780-BAE2-3D722F14B5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8733-4C02-4690-91CA-3AF1663436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5 min for question completion and 3 minutes of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EC0-7D4F-4AA4-AD0A-1C6AB074D2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 Compare graphs, equations, answers… Allow 5 minutes for each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83CA-82EC-4671-ABDD-722E6F2B2A7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20B-06C5-4DE1-9685-784E2547557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27A-E264-4105-8BD2-4098A37FD5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159-38A5-4F2F-A505-2625545F3F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6897-EAB0-4472-93B7-C5188061CD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E704-CEA6-464E-94B3-32B9CBA8FB8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8E49-864A-4658-9E14-AB52ADE0CB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6E1-DF66-4CD1-B22A-F4AA4D3AFF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2D3-C764-4033-B6D1-6236519F40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7D1-858C-4DB9-BCFC-065C4F41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8C8-B74A-42DF-8837-1F430C0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C1C-65C5-4140-81F4-3D563EC9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481-6F5A-4DC5-96D3-E47ED26A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1975-A654-4DE8-8059-62797C6C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3A56-1A2E-46EA-A25C-39F2EC38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499-1E0B-44E4-A87F-E897FA8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ED17-7455-474E-82B6-7F8BB5FE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902D-CD2E-4173-A352-C47809D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F11-02D8-4986-AFCA-128FACB7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9AB-4E0F-4DB1-B85B-92B18E5C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4C0-AEA3-494E-9CE4-AE4CF6B6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22AB-0E58-4531-B620-7C1D8DC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BD7C-83D1-4066-92C3-B19F45B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70B-0BA0-4E51-8EB4-161DDB8C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B82-BB89-4E35-88F4-8D19339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45C5-53CE-4180-92B5-044A49BF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CB3-3CBB-4B9B-87AF-3BB04047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54F-383C-42BF-9E9F-F43FE48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CF1-E79B-435C-A846-6387626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7B8-6202-4F8A-9263-472AF5D6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910-0BB8-40AF-BF56-F955A62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8C2-31F3-430E-95D4-D6FC48C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F9-F8EC-4668-A9C7-83F06F01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902-E58D-47B3-BE83-947FC59AAE6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E29-307E-436A-923F-CB211C2FA7C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142-D57E-4BD1-9DCD-50F1947BDF0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Facilitator nam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????</a:t>
            </a:r>
            <a:r>
              <a:rPr b="0" lang="en-CA" sz="60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53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???</a:t>
            </a:r>
            <a:r>
              <a:rPr b="0" lang="en-CA" sz="1400" spc="-1" strike="noStrike">
                <a:solidFill>
                  <a:srgbClr val="0d469b"/>
                </a:solidFill>
                <a:latin typeface="Arial"/>
              </a:rPr>
              <a:t>???? </a:t>
            </a:r>
            <a:r>
              <a:rPr b="0" lang="en-CA" sz="800" spc="-1" strike="noStrike">
                <a:solidFill>
                  <a:srgbClr val="0d469b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16430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relationships (e.g., numeric, graphic, geometric, algebraic, verbal, concrete/pictorial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95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366920"/>
            <a:ext cx="871704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can help you to describe and analyze generalized quadratic relations and change using word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quadratic relations highlight different characteristics and serve different purposes. 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quadratic relations with other relations (e.g. linear) provides insight into the defining characteristics of a quadratic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quadratic relation can sometimes, but not always, reveal other information about that re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1600" y="124128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040" y="4253040"/>
            <a:ext cx="803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scuss at your table what each of these might look like in your classroom when you are teaching Quadrat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2231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22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44600" y="2598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the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 on yesterday'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800" y="23065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a quadratic relation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47464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We will now look at one way a lesson on quadratic relations could go  . . .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nds On. . 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12040" y="167652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553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36680"/>
            <a:ext cx="868680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 is given in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 different forms. We will be looking to see what information each form gives, if any, about the parabola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y = 3x</a:t>
            </a:r>
            <a:r>
              <a:rPr b="0" lang="en-CA" sz="2800" spc="-1" strike="noStrike" baseline="30000">
                <a:solidFill>
                  <a:srgbClr val="ff33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+6x - 9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= 3 (x + 3)(x – 1)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y = 3(x + 1)</a:t>
            </a:r>
            <a:r>
              <a:rPr b="0" lang="en-CA" sz="2800" spc="-1" strike="noStrike" baseline="30000">
                <a:solidFill>
                  <a:srgbClr val="ff3300"/>
                </a:solidFill>
                <a:latin typeface="Arial"/>
              </a:rPr>
              <a:t>2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– 1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26080" y="1440000"/>
            <a:ext cx="20494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Discussion (not part of classroom less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How open do you find these ques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i="1" lang="en-CA" sz="3200" spc="-1" strike="noStrike">
                <a:solidFill>
                  <a:srgbClr val="99cc00"/>
                </a:solidFill>
                <a:latin typeface="Arial"/>
              </a:rPr>
              <a:t>Rate on a scale of 1 – 10 where 10 is very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Compare your functions (similarities? differences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. 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x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73080" y="3338640"/>
            <a:ext cx="5970600" cy="32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, decide how the chart papers c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94520" y="1038240"/>
            <a:ext cx="17305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List question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  <a:ea typeface="Arial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, the activity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overall and 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algebraic representation do you think is best for graphing? For which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on the exit board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67000" y="16002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17720" y="1771560"/>
            <a:ext cx="35067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wareness of Trig CLIPS and make connections between CLIP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On your own brainstorm potential misconceptions/struggles/partial understandings of trigonometric functions that students hav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our of CLIPS: Periodic &amp; Sine Functions and Their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95640" y="339264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Action!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!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8760" y="215568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 different pair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1  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2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: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learning goal question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3  Comparing quadratic relations with other relations (e.g. linear) provides insight into the defining characteristics of a quadratic relation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Q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1  Trigonometric relations can help you to describe and analyze periodic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call the Big Ideas of Quadratic and Trigonometric Rela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3  The periodic nature of trigonometric relations necessitates the creation of a new class of rel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4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9964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What Big Idea might the author of the question have been addressing with the question?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027240"/>
            <a:ext cx="40384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2998800"/>
            <a:ext cx="40384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rom your facilitat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question that I might ask of my students to address a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rite an equation of a quadratic that has a vertex in the third quadran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at does x=5 mea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Given a graph/table/expression/algebra tile representation, which are quadratic?  How do you know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0T22:08:10Z</dcterms:modified>
  <cp:revision>145</cp:revision>
  <dc:subject/>
  <dc:title>Math GAINS 2008-09</dc:title>
</cp:coreProperties>
</file>